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DRIVEBY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CA5D-EFE0-4267-A0E6-2ECB15254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B731-C765-44CD-8C1C-22A480CA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306C-0624-419B-9D16-08ECA9137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6BFA-47A1-4A51-8AD0-7C2DD9035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44BD-874C-4EF6-BA54-29F3EF0D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FAD6-F3E2-4ED4-BA8D-BA516F07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AD02-4037-48FF-AF94-62B01595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630A-059B-4A87-91D0-0B8AB744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4092-A0D7-43BB-80CD-55EA5BB7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9E3A-62AB-47EE-BF66-49120AAB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40DE-549D-48A9-A57D-4C0333AD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DFCE-3181-4767-8221-20A978D4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73F7-42B7-43E9-B88C-8582A6434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 Re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s 9 -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aluate each of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452840" y="1979640"/>
                <a:ext cx="20955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809640" y="1906560"/>
                <a:ext cx="15876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892080" y="4324320"/>
                <a:ext cx="19051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578480" y="4324320"/>
                <a:ext cx="1904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905040" y="3108240"/>
                <a:ext cx="7934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763640" y="3171960"/>
                <a:ext cx="7621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587840" y="3092400"/>
                <a:ext cx="14288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6067440" y="3154320"/>
                <a:ext cx="9525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7075440" y="3208320"/>
                <a:ext cx="10479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39640" y="5229360"/>
                <a:ext cx="92088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604880" y="5278320"/>
                <a:ext cx="120672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897280" y="5300640"/>
                <a:ext cx="6667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475160" y="5229360"/>
                <a:ext cx="88884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430960" y="5245200"/>
                <a:ext cx="130176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81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738840" y="5292720"/>
                <a:ext cx="8575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556000" y="3213000"/>
                <a:ext cx="6030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7651800" y="5300640"/>
                <a:ext cx="8888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aluate each of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611600" y="1979640"/>
                <a:ext cx="17780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730080" y="1906560"/>
                <a:ext cx="1746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907920" y="4324320"/>
                <a:ext cx="18734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562640" y="4324320"/>
                <a:ext cx="19364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809640" y="3092400"/>
                <a:ext cx="9842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763640" y="3171960"/>
                <a:ext cx="7621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794120" y="3108240"/>
                <a:ext cx="10162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162840" y="3154320"/>
                <a:ext cx="7617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7202520" y="3208320"/>
                <a:ext cx="7938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39640" y="5229360"/>
                <a:ext cx="92088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604880" y="5278320"/>
                <a:ext cx="120672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897280" y="5300640"/>
                <a:ext cx="6667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459320" y="5229360"/>
                <a:ext cx="92088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398920" y="5245200"/>
                <a:ext cx="13654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deg>
                            <m:r>
                              <m:t xml:space="preserve">5</m:t>
                            </m:r>
                          </m:deg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738840" y="5292720"/>
                <a:ext cx="8575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444760" y="3213000"/>
                <a:ext cx="8254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7651800" y="5300640"/>
                <a:ext cx="8888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77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3" dur="770" fill="hold"/>
                                        <p:tgtEl>
                                          <p:spTgt spid="1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5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7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tionalise the following denomin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611600" y="1052640"/>
                <a:ext cx="177804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777960" y="1052640"/>
                <a:ext cx="165096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24000" y="3821040"/>
                <a:ext cx="206352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744480" y="2205000"/>
                <a:ext cx="1523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317680" y="2205000"/>
                <a:ext cx="11746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219560" y="2214720"/>
                <a:ext cx="19368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270480" y="2205000"/>
                <a:ext cx="13971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639200" y="2205000"/>
                <a:ext cx="13968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714760" y="3726000"/>
                <a:ext cx="2793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026040" y="3710160"/>
                <a:ext cx="27939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-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681280" y="5084640"/>
                <a:ext cx="17463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-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-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762440" y="5322960"/>
                <a:ext cx="190512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0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77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2" dur="770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4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6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tionalise the following denomin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675320" y="1052640"/>
                <a:ext cx="165096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777960" y="1052640"/>
                <a:ext cx="165096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76120" y="3821040"/>
                <a:ext cx="215928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744480" y="2205000"/>
                <a:ext cx="1523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317680" y="2205000"/>
                <a:ext cx="11746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425840" y="2214720"/>
                <a:ext cx="15242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381720" y="2205000"/>
                <a:ext cx="11746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7845480" y="2205000"/>
                <a:ext cx="9842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666880" y="3726000"/>
                <a:ext cx="2889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978520" y="3710160"/>
                <a:ext cx="28893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602080" y="5084640"/>
                <a:ext cx="19047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4794120" y="5322960"/>
                <a:ext cx="18417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8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4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4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1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Trigon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6800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e rule, Cosine Rule and 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09480" y="457200"/>
            <a:ext cx="41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.g. 1 Sine Rule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017320" y="572760"/>
            <a:ext cx="4297680" cy="3439440"/>
            <a:chOff x="5017320" y="572760"/>
            <a:chExt cx="4297680" cy="3439440"/>
          </a:xfrm>
        </p:grpSpPr>
        <p:sp>
          <p:nvSpPr>
            <p:cNvPr id="217" name=""/>
            <p:cNvSpPr/>
            <p:nvPr/>
          </p:nvSpPr>
          <p:spPr>
            <a:xfrm>
              <a:off x="8019720" y="16765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 rot="19555800">
              <a:off x="5105520" y="1536480"/>
              <a:ext cx="3904920" cy="1511280"/>
            </a:xfrm>
            <a:prstGeom prst="triangle">
              <a:avLst>
                <a:gd name="adj" fmla="val 5072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33720" y="12193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3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05120" y="22860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36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76720" y="23623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12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066680" y="2514600"/>
                <a:ext cx="28497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371600" y="3340080"/>
                <a:ext cx="21542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12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1295280" y="4343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 sin112º = 23 sin 36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765440" y="4903920"/>
                <a:ext cx="16761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12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1981080" y="5791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 = 14.6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09480" y="4572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x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066680" y="2514600"/>
                <a:ext cx="28497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419120" y="3340080"/>
                <a:ext cx="20574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1295280" y="4343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 sin 67º = 9 sin 23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800360" y="4903920"/>
                <a:ext cx="16048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1981080" y="5791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 = 3.8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070240" y="213840"/>
            <a:ext cx="3651840" cy="3230280"/>
            <a:chOff x="5070240" y="213840"/>
            <a:chExt cx="3651840" cy="3230280"/>
          </a:xfrm>
        </p:grpSpPr>
        <p:sp>
          <p:nvSpPr>
            <p:cNvPr id="234" name=""/>
            <p:cNvSpPr/>
            <p:nvPr/>
          </p:nvSpPr>
          <p:spPr>
            <a:xfrm rot="2056200">
              <a:off x="5257800" y="990720"/>
              <a:ext cx="3276720" cy="1676160"/>
            </a:xfrm>
            <a:prstGeom prst="triangle">
              <a:avLst>
                <a:gd name="adj" fmla="val 19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7800" y="13716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67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62920" y="14479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9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34320" y="25146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3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05520" y="6094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w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09480" y="4572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066680" y="2514600"/>
                <a:ext cx="28497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442880" y="3340080"/>
                <a:ext cx="20098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1295280" y="4343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 sin 98º = 12 sin 18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1789200" y="4903920"/>
                <a:ext cx="16254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1981080" y="5791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 = 3.7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278240" y="412200"/>
            <a:ext cx="4632120" cy="2779200"/>
            <a:chOff x="4278240" y="412200"/>
            <a:chExt cx="4632120" cy="2779200"/>
          </a:xfrm>
        </p:grpSpPr>
        <p:sp>
          <p:nvSpPr>
            <p:cNvPr id="246" name=""/>
            <p:cNvSpPr/>
            <p:nvPr/>
          </p:nvSpPr>
          <p:spPr>
            <a:xfrm rot="9847800">
              <a:off x="4495320" y="963360"/>
              <a:ext cx="4267080" cy="1676520"/>
            </a:xfrm>
            <a:prstGeom prst="triangle">
              <a:avLst>
                <a:gd name="adj" fmla="val 76903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402320" y="6098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8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573520" y="533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2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97560" y="23623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98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278240" y="22100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x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09480" y="4572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x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066680" y="2514600"/>
                <a:ext cx="28497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432080" y="3340080"/>
                <a:ext cx="20332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1295280" y="4343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 sin 39º = 12 sin 59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776240" y="4903920"/>
                <a:ext cx="16527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1981080" y="5791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 = 16.3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809880" y="434520"/>
            <a:ext cx="4876920" cy="3294360"/>
            <a:chOff x="3809880" y="434520"/>
            <a:chExt cx="4876920" cy="3294360"/>
          </a:xfrm>
        </p:grpSpPr>
        <p:sp>
          <p:nvSpPr>
            <p:cNvPr id="258" name=""/>
            <p:cNvSpPr/>
            <p:nvPr/>
          </p:nvSpPr>
          <p:spPr>
            <a:xfrm rot="11780400">
              <a:off x="4186080" y="990000"/>
              <a:ext cx="4267440" cy="2182680"/>
            </a:xfrm>
            <a:prstGeom prst="triangle">
              <a:avLst>
                <a:gd name="adj" fmla="val 6609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3800" y="14382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39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09880" y="14382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2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23526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82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05720" y="23526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y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800600" y="609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59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09480" y="45720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.g. 1 Sine Rule 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1066680" y="2514600"/>
                <a:ext cx="28497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442880" y="3340080"/>
                <a:ext cx="2011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1295280" y="4343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5 sin xº = 20 sin 110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219320" y="4938840"/>
                <a:ext cx="23000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 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1066680" y="5715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° = sin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0.751…) = 48.7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257800" y="876960"/>
            <a:ext cx="3124080" cy="3467880"/>
            <a:chOff x="5257800" y="876960"/>
            <a:chExt cx="3124080" cy="3467880"/>
          </a:xfrm>
        </p:grpSpPr>
        <p:sp>
          <p:nvSpPr>
            <p:cNvPr id="271" name=""/>
            <p:cNvSpPr/>
            <p:nvPr/>
          </p:nvSpPr>
          <p:spPr>
            <a:xfrm flipV="1" rot="15169800">
              <a:off x="5222160" y="1988280"/>
              <a:ext cx="3245040" cy="1244520"/>
            </a:xfrm>
            <a:prstGeom prst="triangle">
              <a:avLst>
                <a:gd name="adj" fmla="val 7565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257800" y="23623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5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77120" y="15238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10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86600" y="23623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0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67280" y="129528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x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ds and Ind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1125000"/>
            <a:ext cx="64008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ation for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50920" y="2276640"/>
                <a:ext cx="35910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643280" y="1987560"/>
                <a:ext cx="29340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50920" y="3716280"/>
                <a:ext cx="308916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643280" y="3716280"/>
                <a:ext cx="401652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50920" y="5338800"/>
                <a:ext cx="21240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643280" y="5072040"/>
                <a:ext cx="270216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09480" y="4572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x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066680" y="2514600"/>
                <a:ext cx="28497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504800" y="3340080"/>
                <a:ext cx="18878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1295280" y="4343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 sin xº = 8 sin 32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362240" y="4938840"/>
                <a:ext cx="20127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 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1066680" y="5715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° = sin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0.7065…) = 45.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052880" y="96840"/>
            <a:ext cx="4938840" cy="3258360"/>
            <a:chOff x="4052880" y="96840"/>
            <a:chExt cx="4938840" cy="3258360"/>
          </a:xfrm>
        </p:grpSpPr>
        <p:sp>
          <p:nvSpPr>
            <p:cNvPr id="283" name=""/>
            <p:cNvSpPr/>
            <p:nvPr/>
          </p:nvSpPr>
          <p:spPr>
            <a:xfrm rot="20778000">
              <a:off x="4267080" y="533520"/>
              <a:ext cx="3962520" cy="2286000"/>
            </a:xfrm>
            <a:prstGeom prst="triangle">
              <a:avLst>
                <a:gd name="adj" fmla="val 77606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7120" y="28954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8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05720" y="6094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x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105520" y="25146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32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48720" y="9144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6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09480" y="4572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1066680" y="2514600"/>
                <a:ext cx="28497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492200" y="3340080"/>
                <a:ext cx="19130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y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990720" y="43434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.5 sin yº = 12 sin 40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1290600" y="4938840"/>
                <a:ext cx="21574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 y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1066680" y="5715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° = sin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0.7346…) = 47.3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962520" y="313560"/>
            <a:ext cx="4901400" cy="3707280"/>
            <a:chOff x="3962520" y="313560"/>
            <a:chExt cx="4901400" cy="3707280"/>
          </a:xfrm>
        </p:grpSpPr>
        <p:sp>
          <p:nvSpPr>
            <p:cNvPr id="295" name=""/>
            <p:cNvSpPr/>
            <p:nvPr/>
          </p:nvSpPr>
          <p:spPr>
            <a:xfrm rot="12215400">
              <a:off x="4338360" y="1075680"/>
              <a:ext cx="4267080" cy="2182680"/>
            </a:xfrm>
            <a:prstGeom prst="triangle">
              <a:avLst>
                <a:gd name="adj" fmla="val 66093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181480" y="6858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y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62520" y="15242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0.5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858000" y="24386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2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20120" y="17352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40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09480" y="4572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x 3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Find y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066680" y="2514600"/>
                <a:ext cx="28497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504800" y="3340080"/>
                <a:ext cx="18860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990720" y="43434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2 sin xº = 29 sin 52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279440" y="4938840"/>
                <a:ext cx="21812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 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1066680" y="5715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° = sin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0.71413…) = 45.6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951000" y="543600"/>
            <a:ext cx="4911840" cy="3215160"/>
            <a:chOff x="3951000" y="543600"/>
            <a:chExt cx="4911840" cy="3215160"/>
          </a:xfrm>
        </p:grpSpPr>
        <p:sp>
          <p:nvSpPr>
            <p:cNvPr id="307" name=""/>
            <p:cNvSpPr/>
            <p:nvPr/>
          </p:nvSpPr>
          <p:spPr>
            <a:xfrm rot="20404200">
              <a:off x="4146480" y="1206360"/>
              <a:ext cx="4221360" cy="1889280"/>
            </a:xfrm>
            <a:prstGeom prst="triangle">
              <a:avLst>
                <a:gd name="adj" fmla="val 56870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53120" y="1295280"/>
              <a:ext cx="131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y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52920" y="2057400"/>
              <a:ext cx="131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32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15200" y="1219320"/>
              <a:ext cx="131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9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548480" y="2133720"/>
              <a:ext cx="131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52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4343400" y="419112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ence y°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80 - 52 - 45.6 = 82.4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05520" y="2971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x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152280" y="762120"/>
            <a:ext cx="5486400" cy="2593080"/>
            <a:chOff x="152280" y="762120"/>
            <a:chExt cx="5486400" cy="2593080"/>
          </a:xfrm>
        </p:grpSpPr>
        <p:sp>
          <p:nvSpPr>
            <p:cNvPr id="315" name=""/>
            <p:cNvSpPr/>
            <p:nvPr/>
          </p:nvSpPr>
          <p:spPr>
            <a:xfrm flipH="1">
              <a:off x="532800" y="1143000"/>
              <a:ext cx="3809880" cy="1752120"/>
            </a:xfrm>
            <a:prstGeom prst="triangle">
              <a:avLst>
                <a:gd name="adj" fmla="val 34708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95280" y="152388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133720" y="28954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1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57600" y="15238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7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43400" y="26668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52280" y="259056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29000" y="24382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48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19520" y="762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762120" y="35053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b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+ 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2.b.c.Cos A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40528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1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+ 7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2.11.7.Cos 48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62120" y="45864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121 + 49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154Cos 48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62120" y="511956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6.95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57294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 = 8.2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189000"/>
            <a:ext cx="489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.g 1 Cosine rule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181480" y="1066320"/>
            <a:ext cx="3200400" cy="914760"/>
            <a:chOff x="5181480" y="1066320"/>
            <a:chExt cx="3200400" cy="914760"/>
          </a:xfrm>
        </p:grpSpPr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5380200" y="1219320"/>
                  <a:ext cx="2849400" cy="73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A</m:t>
                          </m:r>
                          <m:r>
                            <m:t xml:space="preserve">°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B</m:t>
                          </m:r>
                          <m:r>
                            <m:t xml:space="preserve">°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C</m:t>
                          </m:r>
                          <m:r>
                            <m:t xml:space="preserve">°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331" name=""/>
            <p:cNvGrpSpPr/>
            <p:nvPr/>
          </p:nvGrpSpPr>
          <p:grpSpPr>
            <a:xfrm>
              <a:off x="5181480" y="1676520"/>
              <a:ext cx="380880" cy="304560"/>
              <a:chOff x="5181480" y="1676520"/>
              <a:chExt cx="380880" cy="304560"/>
            </a:xfrm>
          </p:grpSpPr>
          <p:sp>
            <p:nvSpPr>
              <p:cNvPr id="332" name=""/>
              <p:cNvSpPr/>
              <p:nvPr/>
            </p:nvSpPr>
            <p:spPr>
              <a:xfrm>
                <a:off x="5181480" y="1828800"/>
                <a:ext cx="7632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5257800" y="1676520"/>
                <a:ext cx="30456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6858000" y="1066320"/>
              <a:ext cx="380880" cy="305280"/>
              <a:chOff x="6858000" y="1066320"/>
              <a:chExt cx="380880" cy="305280"/>
            </a:xfrm>
          </p:grpSpPr>
          <p:sp>
            <p:nvSpPr>
              <p:cNvPr id="335" name=""/>
              <p:cNvSpPr/>
              <p:nvPr/>
            </p:nvSpPr>
            <p:spPr>
              <a:xfrm>
                <a:off x="6858000" y="1219320"/>
                <a:ext cx="763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6934320" y="106632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8001000" y="1142640"/>
              <a:ext cx="380880" cy="305280"/>
              <a:chOff x="8001000" y="1142640"/>
              <a:chExt cx="380880" cy="305280"/>
            </a:xfrm>
          </p:grpSpPr>
          <p:sp>
            <p:nvSpPr>
              <p:cNvPr id="338" name=""/>
              <p:cNvSpPr/>
              <p:nvPr/>
            </p:nvSpPr>
            <p:spPr>
              <a:xfrm>
                <a:off x="8001000" y="1295640"/>
                <a:ext cx="763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V="1">
                <a:off x="8077320" y="114264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1419480" y="907560"/>
            <a:ext cx="4066920" cy="2371680"/>
            <a:chOff x="1419480" y="907560"/>
            <a:chExt cx="4066920" cy="2371680"/>
          </a:xfrm>
        </p:grpSpPr>
        <p:sp>
          <p:nvSpPr>
            <p:cNvPr id="341" name=""/>
            <p:cNvSpPr/>
            <p:nvPr/>
          </p:nvSpPr>
          <p:spPr>
            <a:xfrm flipH="1" rot="21162000">
              <a:off x="1518480" y="1084320"/>
              <a:ext cx="2895840" cy="1752840"/>
            </a:xfrm>
            <a:prstGeom prst="triangle">
              <a:avLst>
                <a:gd name="adj" fmla="val 19736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048120" y="28195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81440" y="15238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8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191120" y="15238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5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353040" y="12193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56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3505320" y="533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50532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b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+ 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2.b.c.Cos X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38080" y="405288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8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2.8.5.Cos 56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38080" y="45864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64 + 25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80Cos 56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38080" y="511956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44.26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57294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 = 6.7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9480" y="4572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x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0" y="2438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143000" y="2819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5486400" y="1066320"/>
            <a:ext cx="3200400" cy="914760"/>
            <a:chOff x="5486400" y="1066320"/>
            <a:chExt cx="3200400" cy="914760"/>
          </a:xfrm>
        </p:grpSpPr>
        <mc:AlternateContent>
          <mc:Choice xmlns:a14="http://schemas.microsoft.com/office/drawing/2010/main" Requires="a14">
            <p:sp>
              <p:nvSpPr>
                <p:cNvPr id="356" name=""/>
                <p:cNvSpPr txBox="1"/>
                <p:nvPr/>
              </p:nvSpPr>
              <p:spPr>
                <a:xfrm>
                  <a:off x="5685120" y="1219320"/>
                  <a:ext cx="2849400" cy="73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A</m:t>
                          </m:r>
                          <m:r>
                            <m:t xml:space="preserve">°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B</m:t>
                          </m:r>
                          <m:r>
                            <m:t xml:space="preserve">°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C</m:t>
                          </m:r>
                          <m:r>
                            <m:t xml:space="preserve">°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357" name=""/>
            <p:cNvGrpSpPr/>
            <p:nvPr/>
          </p:nvGrpSpPr>
          <p:grpSpPr>
            <a:xfrm>
              <a:off x="5486400" y="1676520"/>
              <a:ext cx="380880" cy="304560"/>
              <a:chOff x="5486400" y="1676520"/>
              <a:chExt cx="380880" cy="304560"/>
            </a:xfrm>
          </p:grpSpPr>
          <p:sp>
            <p:nvSpPr>
              <p:cNvPr id="358" name=""/>
              <p:cNvSpPr/>
              <p:nvPr/>
            </p:nvSpPr>
            <p:spPr>
              <a:xfrm>
                <a:off x="5486400" y="1828800"/>
                <a:ext cx="7632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5562720" y="1676520"/>
                <a:ext cx="30456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7162920" y="1066320"/>
              <a:ext cx="380880" cy="305280"/>
              <a:chOff x="7162920" y="1066320"/>
              <a:chExt cx="380880" cy="305280"/>
            </a:xfrm>
          </p:grpSpPr>
          <p:sp>
            <p:nvSpPr>
              <p:cNvPr id="361" name=""/>
              <p:cNvSpPr/>
              <p:nvPr/>
            </p:nvSpPr>
            <p:spPr>
              <a:xfrm>
                <a:off x="7162920" y="1219320"/>
                <a:ext cx="763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7239240" y="106632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8305920" y="1142640"/>
              <a:ext cx="380880" cy="305280"/>
              <a:chOff x="8305920" y="1142640"/>
              <a:chExt cx="380880" cy="305280"/>
            </a:xfrm>
          </p:grpSpPr>
          <p:sp>
            <p:nvSpPr>
              <p:cNvPr id="364" name=""/>
              <p:cNvSpPr/>
              <p:nvPr/>
            </p:nvSpPr>
            <p:spPr>
              <a:xfrm>
                <a:off x="8305920" y="1295640"/>
                <a:ext cx="763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8382240" y="114264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"/>
          <p:cNvGrpSpPr/>
          <p:nvPr/>
        </p:nvGrpSpPr>
        <p:grpSpPr>
          <a:xfrm>
            <a:off x="749520" y="1295280"/>
            <a:ext cx="4813200" cy="1790280"/>
            <a:chOff x="749520" y="1295280"/>
            <a:chExt cx="4813200" cy="1790280"/>
          </a:xfrm>
        </p:grpSpPr>
        <p:sp>
          <p:nvSpPr>
            <p:cNvPr id="367" name=""/>
            <p:cNvSpPr/>
            <p:nvPr/>
          </p:nvSpPr>
          <p:spPr>
            <a:xfrm flipV="1" rot="21162000">
              <a:off x="798120" y="1752480"/>
              <a:ext cx="4459320" cy="1054080"/>
            </a:xfrm>
            <a:prstGeom prst="triangle">
              <a:avLst>
                <a:gd name="adj" fmla="val 50727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19520" y="12952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371600" y="23623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8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267080" y="205740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9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743200" y="22096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48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2971800" y="2819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2120" y="35053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b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+ 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2.b.c.Cos X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62120" y="40528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8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+ 9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2.8.9.Cos 148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62120" y="45864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64 + 81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144Cos 148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62120" y="511956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67.11 …           (suspicious?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62120" y="57294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 = 16.3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4572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257800" y="1143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4920" y="1828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410080" y="2133360"/>
            <a:ext cx="3200400" cy="914760"/>
            <a:chOff x="5410080" y="2133360"/>
            <a:chExt cx="3200400" cy="914760"/>
          </a:xfrm>
        </p:grpSpPr>
        <mc:AlternateContent>
          <mc:Choice xmlns:a14="http://schemas.microsoft.com/office/drawing/2010/main" Requires="a14">
            <p:sp>
              <p:nvSpPr>
                <p:cNvPr id="382" name=""/>
                <p:cNvSpPr txBox="1"/>
                <p:nvPr/>
              </p:nvSpPr>
              <p:spPr>
                <a:xfrm>
                  <a:off x="5608800" y="2286360"/>
                  <a:ext cx="2849400" cy="73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A</m:t>
                          </m:r>
                          <m:r>
                            <m:t xml:space="preserve">°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B</m:t>
                          </m:r>
                          <m:r>
                            <m:t xml:space="preserve">°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C</m:t>
                          </m:r>
                          <m:r>
                            <m:t xml:space="preserve">°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383" name=""/>
            <p:cNvGrpSpPr/>
            <p:nvPr/>
          </p:nvGrpSpPr>
          <p:grpSpPr>
            <a:xfrm>
              <a:off x="5410080" y="2743560"/>
              <a:ext cx="380880" cy="304560"/>
              <a:chOff x="5410080" y="2743560"/>
              <a:chExt cx="380880" cy="304560"/>
            </a:xfrm>
          </p:grpSpPr>
          <p:sp>
            <p:nvSpPr>
              <p:cNvPr id="384" name=""/>
              <p:cNvSpPr/>
              <p:nvPr/>
            </p:nvSpPr>
            <p:spPr>
              <a:xfrm>
                <a:off x="5410080" y="2895840"/>
                <a:ext cx="7632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5486400" y="2743560"/>
                <a:ext cx="30456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7086600" y="2133360"/>
              <a:ext cx="380880" cy="305280"/>
              <a:chOff x="7086600" y="2133360"/>
              <a:chExt cx="380880" cy="305280"/>
            </a:xfrm>
          </p:grpSpPr>
          <p:sp>
            <p:nvSpPr>
              <p:cNvPr id="387" name=""/>
              <p:cNvSpPr/>
              <p:nvPr/>
            </p:nvSpPr>
            <p:spPr>
              <a:xfrm>
                <a:off x="7086600" y="2286360"/>
                <a:ext cx="763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7162920" y="213336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8229600" y="2209680"/>
              <a:ext cx="380880" cy="305280"/>
              <a:chOff x="8229600" y="2209680"/>
              <a:chExt cx="380880" cy="305280"/>
            </a:xfrm>
          </p:grpSpPr>
          <p:sp>
            <p:nvSpPr>
              <p:cNvPr id="390" name=""/>
              <p:cNvSpPr/>
              <p:nvPr/>
            </p:nvSpPr>
            <p:spPr>
              <a:xfrm>
                <a:off x="8229600" y="2362680"/>
                <a:ext cx="763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8305920" y="220968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8" dur="indefinite" restart="never" nodeType="tmRoot">
          <p:childTnLst>
            <p:seq>
              <p:cTn id="1359" dur="indefinite" nodeType="mainSeq">
                <p:childTnLst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"/>
          <p:cNvGrpSpPr/>
          <p:nvPr/>
        </p:nvGrpSpPr>
        <p:grpSpPr>
          <a:xfrm>
            <a:off x="1300320" y="914400"/>
            <a:ext cx="4491000" cy="2109600"/>
            <a:chOff x="1300320" y="914400"/>
            <a:chExt cx="4491000" cy="2109600"/>
          </a:xfrm>
        </p:grpSpPr>
        <p:sp>
          <p:nvSpPr>
            <p:cNvPr id="393" name=""/>
            <p:cNvSpPr/>
            <p:nvPr/>
          </p:nvSpPr>
          <p:spPr>
            <a:xfrm>
              <a:off x="4496040" y="18288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 rot="21162000">
              <a:off x="1371240" y="1409400"/>
              <a:ext cx="3905280" cy="1371960"/>
            </a:xfrm>
            <a:prstGeom prst="triangle">
              <a:avLst>
                <a:gd name="adj" fmla="val 5072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679760" y="22096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9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46440" y="9144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30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832040" y="15238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32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838080" y="13716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066680" y="350532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b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+ 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2.b.c.Cos X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66680" y="405288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19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+ 3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2.19.30.Cos 32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066680" y="45864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361 + 900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1140Cos 32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066680" y="511956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94.22 …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066680" y="57294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 = 17.2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04920" y="4572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x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257800" y="914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00400" y="2819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86400" y="1676160"/>
            <a:ext cx="3200400" cy="914760"/>
            <a:chOff x="5486400" y="1676160"/>
            <a:chExt cx="3200400" cy="914760"/>
          </a:xfrm>
        </p:grpSpPr>
        <mc:AlternateContent>
          <mc:Choice xmlns:a14="http://schemas.microsoft.com/office/drawing/2010/main" Requires="a14">
            <p:sp>
              <p:nvSpPr>
                <p:cNvPr id="408" name=""/>
                <p:cNvSpPr txBox="1"/>
                <p:nvPr/>
              </p:nvSpPr>
              <p:spPr>
                <a:xfrm>
                  <a:off x="5685120" y="1829160"/>
                  <a:ext cx="2849400" cy="73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A</m:t>
                          </m:r>
                          <m:r>
                            <m:t xml:space="preserve">°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B</m:t>
                          </m:r>
                          <m:r>
                            <m:t xml:space="preserve">°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C</m:t>
                          </m:r>
                          <m:r>
                            <m:t xml:space="preserve">°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409" name=""/>
            <p:cNvGrpSpPr/>
            <p:nvPr/>
          </p:nvGrpSpPr>
          <p:grpSpPr>
            <a:xfrm>
              <a:off x="5486400" y="2286360"/>
              <a:ext cx="380880" cy="304560"/>
              <a:chOff x="5486400" y="2286360"/>
              <a:chExt cx="380880" cy="304560"/>
            </a:xfrm>
          </p:grpSpPr>
          <p:sp>
            <p:nvSpPr>
              <p:cNvPr id="410" name=""/>
              <p:cNvSpPr/>
              <p:nvPr/>
            </p:nvSpPr>
            <p:spPr>
              <a:xfrm>
                <a:off x="5486400" y="2438640"/>
                <a:ext cx="7632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5562720" y="2286360"/>
                <a:ext cx="30456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7162920" y="1676160"/>
              <a:ext cx="380880" cy="305280"/>
              <a:chOff x="7162920" y="1676160"/>
              <a:chExt cx="380880" cy="305280"/>
            </a:xfrm>
          </p:grpSpPr>
          <p:sp>
            <p:nvSpPr>
              <p:cNvPr id="413" name=""/>
              <p:cNvSpPr/>
              <p:nvPr/>
            </p:nvSpPr>
            <p:spPr>
              <a:xfrm>
                <a:off x="7162920" y="1829160"/>
                <a:ext cx="763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7239240" y="167616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8305920" y="1752480"/>
              <a:ext cx="380880" cy="305280"/>
              <a:chOff x="8305920" y="1752480"/>
              <a:chExt cx="380880" cy="305280"/>
            </a:xfrm>
          </p:grpSpPr>
          <p:sp>
            <p:nvSpPr>
              <p:cNvPr id="416" name=""/>
              <p:cNvSpPr/>
              <p:nvPr/>
            </p:nvSpPr>
            <p:spPr>
              <a:xfrm>
                <a:off x="8305920" y="1905480"/>
                <a:ext cx="763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8382240" y="175248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"/>
          <p:cNvGrpSpPr/>
          <p:nvPr/>
        </p:nvGrpSpPr>
        <p:grpSpPr>
          <a:xfrm>
            <a:off x="1300320" y="914400"/>
            <a:ext cx="4491000" cy="2109600"/>
            <a:chOff x="1300320" y="914400"/>
            <a:chExt cx="4491000" cy="2109600"/>
          </a:xfrm>
        </p:grpSpPr>
        <p:sp>
          <p:nvSpPr>
            <p:cNvPr id="419" name=""/>
            <p:cNvSpPr/>
            <p:nvPr/>
          </p:nvSpPr>
          <p:spPr>
            <a:xfrm>
              <a:off x="4496040" y="18288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2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 rot="21162000">
              <a:off x="1371240" y="1409400"/>
              <a:ext cx="3905280" cy="1371960"/>
            </a:xfrm>
            <a:prstGeom prst="triangle">
              <a:avLst>
                <a:gd name="adj" fmla="val 5072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79760" y="22096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7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746440" y="9144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5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832040" y="15238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x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838080" y="13716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04920" y="189000"/>
            <a:ext cx="671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.g.1 Cosine Rule 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257800" y="914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200400" y="2819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5684760" y="1676520"/>
            <a:ext cx="3002040" cy="892080"/>
            <a:chOff x="5684760" y="1676520"/>
            <a:chExt cx="3002040" cy="892080"/>
          </a:xfrm>
        </p:grpSpPr>
        <mc:AlternateContent>
          <mc:Choice xmlns:a14="http://schemas.microsoft.com/office/drawing/2010/main" Requires="a14">
            <p:sp>
              <p:nvSpPr>
                <p:cNvPr id="429" name=""/>
                <p:cNvSpPr txBox="1"/>
                <p:nvPr/>
              </p:nvSpPr>
              <p:spPr>
                <a:xfrm>
                  <a:off x="5684760" y="1828800"/>
                  <a:ext cx="2849760" cy="73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A</m:t>
                          </m:r>
                          <m:r>
                            <m:t xml:space="preserve">°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B</m:t>
                          </m:r>
                          <m:r>
                            <m:t xml:space="preserve">°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C</m:t>
                          </m:r>
                          <m:r>
                            <m:t xml:space="preserve">°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430" name=""/>
            <p:cNvGrpSpPr/>
            <p:nvPr/>
          </p:nvGrpSpPr>
          <p:grpSpPr>
            <a:xfrm>
              <a:off x="5715000" y="1752120"/>
              <a:ext cx="380880" cy="305280"/>
              <a:chOff x="5715000" y="1752120"/>
              <a:chExt cx="380880" cy="305280"/>
            </a:xfrm>
          </p:grpSpPr>
          <p:sp>
            <p:nvSpPr>
              <p:cNvPr id="431" name=""/>
              <p:cNvSpPr/>
              <p:nvPr/>
            </p:nvSpPr>
            <p:spPr>
              <a:xfrm>
                <a:off x="5715000" y="1905120"/>
                <a:ext cx="763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>
                <a:off x="5791320" y="175212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7162920" y="1676520"/>
              <a:ext cx="380880" cy="304560"/>
              <a:chOff x="7162920" y="1676520"/>
              <a:chExt cx="380880" cy="304560"/>
            </a:xfrm>
          </p:grpSpPr>
          <p:sp>
            <p:nvSpPr>
              <p:cNvPr id="434" name=""/>
              <p:cNvSpPr/>
              <p:nvPr/>
            </p:nvSpPr>
            <p:spPr>
              <a:xfrm>
                <a:off x="7162920" y="1828800"/>
                <a:ext cx="7632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7239240" y="1676520"/>
                <a:ext cx="30456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8305920" y="1752120"/>
              <a:ext cx="380880" cy="305280"/>
              <a:chOff x="8305920" y="1752120"/>
              <a:chExt cx="380880" cy="305280"/>
            </a:xfrm>
          </p:grpSpPr>
          <p:sp>
            <p:nvSpPr>
              <p:cNvPr id="437" name=""/>
              <p:cNvSpPr/>
              <p:nvPr/>
            </p:nvSpPr>
            <p:spPr>
              <a:xfrm>
                <a:off x="8305920" y="1905120"/>
                <a:ext cx="763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8382240" y="175212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838080" y="3351240"/>
                <a:ext cx="25909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635040" y="4341960"/>
                <a:ext cx="299700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297080" y="5283360"/>
                <a:ext cx="162216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3683160" y="5310360"/>
                <a:ext cx="302256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5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0" dur="indefinite" restart="never" nodeType="tmRoot">
          <p:childTnLst>
            <p:seq>
              <p:cTn id="1471" dur="indefinite" nodeType="mainSeq">
                <p:childTnLst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 flipV="1" rot="1697400">
            <a:off x="1523520" y="1523520"/>
            <a:ext cx="2892600" cy="1392480"/>
          </a:xfrm>
          <a:prstGeom prst="triangle">
            <a:avLst>
              <a:gd name="adj" fmla="val 6534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867120" y="20574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648320" y="2057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04920" y="4572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x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981080" y="533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666880" y="2895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762120" y="3503520"/>
                <a:ext cx="25905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533520" y="4341960"/>
                <a:ext cx="320040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1193760" y="5283360"/>
                <a:ext cx="182880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3568680" y="5310360"/>
                <a:ext cx="325116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3809880" y="266688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.3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57440" y="20574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.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333600" y="1219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8.9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5684760" y="1676520"/>
            <a:ext cx="3002040" cy="892080"/>
            <a:chOff x="5684760" y="1676520"/>
            <a:chExt cx="3002040" cy="892080"/>
          </a:xfrm>
        </p:grpSpPr>
        <mc:AlternateContent>
          <mc:Choice xmlns:a14="http://schemas.microsoft.com/office/drawing/2010/main" Requires="a14">
            <p:sp>
              <p:nvSpPr>
                <p:cNvPr id="457" name=""/>
                <p:cNvSpPr txBox="1"/>
                <p:nvPr/>
              </p:nvSpPr>
              <p:spPr>
                <a:xfrm>
                  <a:off x="5684760" y="1828800"/>
                  <a:ext cx="2849760" cy="73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A</m:t>
                          </m:r>
                          <m:r>
                            <m:t xml:space="preserve">°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B</m:t>
                          </m:r>
                          <m:r>
                            <m:t xml:space="preserve">°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C</m:t>
                          </m:r>
                          <m:r>
                            <m:t xml:space="preserve">°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458" name=""/>
            <p:cNvGrpSpPr/>
            <p:nvPr/>
          </p:nvGrpSpPr>
          <p:grpSpPr>
            <a:xfrm>
              <a:off x="5715000" y="1752120"/>
              <a:ext cx="380880" cy="305280"/>
              <a:chOff x="5715000" y="1752120"/>
              <a:chExt cx="380880" cy="305280"/>
            </a:xfrm>
          </p:grpSpPr>
          <p:sp>
            <p:nvSpPr>
              <p:cNvPr id="459" name=""/>
              <p:cNvSpPr/>
              <p:nvPr/>
            </p:nvSpPr>
            <p:spPr>
              <a:xfrm>
                <a:off x="5715000" y="1905120"/>
                <a:ext cx="763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5791320" y="175212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7162920" y="1676520"/>
              <a:ext cx="380880" cy="304560"/>
              <a:chOff x="7162920" y="1676520"/>
              <a:chExt cx="380880" cy="304560"/>
            </a:xfrm>
          </p:grpSpPr>
          <p:sp>
            <p:nvSpPr>
              <p:cNvPr id="462" name=""/>
              <p:cNvSpPr/>
              <p:nvPr/>
            </p:nvSpPr>
            <p:spPr>
              <a:xfrm>
                <a:off x="7162920" y="1828800"/>
                <a:ext cx="7632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7239240" y="1676520"/>
                <a:ext cx="30456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8305920" y="1752120"/>
              <a:ext cx="380880" cy="305280"/>
              <a:chOff x="8305920" y="1752120"/>
              <a:chExt cx="380880" cy="305280"/>
            </a:xfrm>
          </p:grpSpPr>
          <p:sp>
            <p:nvSpPr>
              <p:cNvPr id="465" name=""/>
              <p:cNvSpPr/>
              <p:nvPr/>
            </p:nvSpPr>
            <p:spPr>
              <a:xfrm>
                <a:off x="8305920" y="1905120"/>
                <a:ext cx="763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8382240" y="175212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0" dur="indefinite" restart="never" nodeType="tmRoot">
          <p:childTnLst>
            <p:seq>
              <p:cTn id="1521" dur="indefinite" nodeType="mainSeq">
                <p:childTnLst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 flipV="1" rot="10877400">
            <a:off x="1678680" y="914400"/>
            <a:ext cx="2892600" cy="1697040"/>
          </a:xfrm>
          <a:prstGeom prst="triangle">
            <a:avLst>
              <a:gd name="adj" fmla="val 5413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905120" y="21337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295280" y="2438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04920" y="4572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x.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819520" y="457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495680" y="2666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762120" y="3503520"/>
                <a:ext cx="25905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635040" y="4341960"/>
                <a:ext cx="299700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1219320" y="5283360"/>
                <a:ext cx="17780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4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3594240" y="5310360"/>
                <a:ext cx="32004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1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40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7" name=""/>
          <p:cNvSpPr/>
          <p:nvPr/>
        </p:nvSpPr>
        <p:spPr>
          <a:xfrm>
            <a:off x="2743200" y="25909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276200" y="13716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4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638520" y="129528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8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5684760" y="1676520"/>
            <a:ext cx="3002040" cy="892080"/>
            <a:chOff x="5684760" y="1676520"/>
            <a:chExt cx="3002040" cy="892080"/>
          </a:xfrm>
        </p:grpSpPr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5684760" y="1828800"/>
                  <a:ext cx="2849760" cy="73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A</m:t>
                          </m:r>
                          <m:r>
                            <m:t xml:space="preserve">°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B</m:t>
                          </m:r>
                          <m:r>
                            <m:t xml:space="preserve">°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C</m:t>
                          </m:r>
                          <m:r>
                            <m:t xml:space="preserve">°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482" name=""/>
            <p:cNvGrpSpPr/>
            <p:nvPr/>
          </p:nvGrpSpPr>
          <p:grpSpPr>
            <a:xfrm>
              <a:off x="5715000" y="1752120"/>
              <a:ext cx="380880" cy="305280"/>
              <a:chOff x="5715000" y="1752120"/>
              <a:chExt cx="380880" cy="305280"/>
            </a:xfrm>
          </p:grpSpPr>
          <p:sp>
            <p:nvSpPr>
              <p:cNvPr id="483" name=""/>
              <p:cNvSpPr/>
              <p:nvPr/>
            </p:nvSpPr>
            <p:spPr>
              <a:xfrm>
                <a:off x="5715000" y="1905120"/>
                <a:ext cx="763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5791320" y="175212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7162920" y="1676520"/>
              <a:ext cx="380880" cy="304560"/>
              <a:chOff x="7162920" y="1676520"/>
              <a:chExt cx="380880" cy="304560"/>
            </a:xfrm>
          </p:grpSpPr>
          <p:sp>
            <p:nvSpPr>
              <p:cNvPr id="486" name=""/>
              <p:cNvSpPr/>
              <p:nvPr/>
            </p:nvSpPr>
            <p:spPr>
              <a:xfrm>
                <a:off x="7162920" y="1828800"/>
                <a:ext cx="7632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7239240" y="1676520"/>
                <a:ext cx="30456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8305920" y="1752120"/>
              <a:ext cx="380880" cy="305280"/>
              <a:chOff x="8305920" y="1752120"/>
              <a:chExt cx="380880" cy="305280"/>
            </a:xfrm>
          </p:grpSpPr>
          <p:sp>
            <p:nvSpPr>
              <p:cNvPr id="489" name=""/>
              <p:cNvSpPr/>
              <p:nvPr/>
            </p:nvSpPr>
            <p:spPr>
              <a:xfrm>
                <a:off x="8305920" y="1905120"/>
                <a:ext cx="763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8382240" y="175212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ify the following leaving positive ind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357800" y="1773360"/>
                <a:ext cx="228600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50880" y="1700280"/>
                <a:ext cx="190512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669960" y="4118040"/>
                <a:ext cx="23493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24320" y="4149720"/>
                <a:ext cx="241308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952560" y="2886120"/>
                <a:ext cx="69840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057400" y="3156120"/>
                <a:ext cx="7621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016600" y="2854440"/>
                <a:ext cx="57132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724360" y="3122640"/>
                <a:ext cx="8892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6810480" y="2906640"/>
                <a:ext cx="85716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096920" y="5229360"/>
                <a:ext cx="66672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763640" y="5516640"/>
                <a:ext cx="8892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779560" y="5334120"/>
                <a:ext cx="69876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500720" y="5261040"/>
                <a:ext cx="98424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524560" y="5261040"/>
                <a:ext cx="114300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877080" y="5292720"/>
                <a:ext cx="10796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 flipH="1" flipV="1" rot="19947600">
            <a:off x="1446840" y="1706040"/>
            <a:ext cx="3443040" cy="858960"/>
          </a:xfrm>
          <a:prstGeom prst="triangle">
            <a:avLst>
              <a:gd name="adj" fmla="val 54139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952720" y="21337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276720" y="2514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04920" y="4572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x.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99072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72000" y="609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762120" y="3503520"/>
                <a:ext cx="25905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647640" y="4341960"/>
                <a:ext cx="297180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1193760" y="5283360"/>
                <a:ext cx="182880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2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8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3708360" y="5310360"/>
                <a:ext cx="337824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2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8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1" name=""/>
          <p:cNvSpPr/>
          <p:nvPr/>
        </p:nvSpPr>
        <p:spPr>
          <a:xfrm>
            <a:off x="2209680" y="13716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8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962000" y="25146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7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019400" y="16765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3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5684760" y="1676520"/>
            <a:ext cx="3002040" cy="892080"/>
            <a:chOff x="5684760" y="1676520"/>
            <a:chExt cx="3002040" cy="892080"/>
          </a:xfrm>
        </p:grpSpPr>
        <mc:AlternateContent>
          <mc:Choice xmlns:a14="http://schemas.microsoft.com/office/drawing/2010/main" Requires="a14">
            <p:sp>
              <p:nvSpPr>
                <p:cNvPr id="505" name=""/>
                <p:cNvSpPr txBox="1"/>
                <p:nvPr/>
              </p:nvSpPr>
              <p:spPr>
                <a:xfrm>
                  <a:off x="5684760" y="1828800"/>
                  <a:ext cx="2849760" cy="73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A</m:t>
                          </m:r>
                          <m:r>
                            <m:t xml:space="preserve">°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B</m:t>
                          </m:r>
                          <m:r>
                            <m:t xml:space="preserve">°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C</m:t>
                          </m:r>
                          <m:r>
                            <m:t xml:space="preserve">°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506" name=""/>
            <p:cNvGrpSpPr/>
            <p:nvPr/>
          </p:nvGrpSpPr>
          <p:grpSpPr>
            <a:xfrm>
              <a:off x="5715000" y="1752120"/>
              <a:ext cx="380880" cy="305280"/>
              <a:chOff x="5715000" y="1752120"/>
              <a:chExt cx="380880" cy="305280"/>
            </a:xfrm>
          </p:grpSpPr>
          <p:sp>
            <p:nvSpPr>
              <p:cNvPr id="507" name=""/>
              <p:cNvSpPr/>
              <p:nvPr/>
            </p:nvSpPr>
            <p:spPr>
              <a:xfrm>
                <a:off x="5715000" y="1905120"/>
                <a:ext cx="763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5791320" y="175212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7162920" y="1676520"/>
              <a:ext cx="380880" cy="304560"/>
              <a:chOff x="7162920" y="1676520"/>
              <a:chExt cx="380880" cy="304560"/>
            </a:xfrm>
          </p:grpSpPr>
          <p:sp>
            <p:nvSpPr>
              <p:cNvPr id="510" name=""/>
              <p:cNvSpPr/>
              <p:nvPr/>
            </p:nvSpPr>
            <p:spPr>
              <a:xfrm>
                <a:off x="7162920" y="1828800"/>
                <a:ext cx="7632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7239240" y="1676520"/>
                <a:ext cx="30456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8305920" y="1752120"/>
              <a:ext cx="380880" cy="305280"/>
              <a:chOff x="8305920" y="1752120"/>
              <a:chExt cx="380880" cy="305280"/>
            </a:xfrm>
          </p:grpSpPr>
          <p:sp>
            <p:nvSpPr>
              <p:cNvPr id="513" name=""/>
              <p:cNvSpPr/>
              <p:nvPr/>
            </p:nvSpPr>
            <p:spPr>
              <a:xfrm>
                <a:off x="8305920" y="1905120"/>
                <a:ext cx="763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8382240" y="175212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0" dur="indefinite" restart="never" nodeType="tmRoot">
          <p:childTnLst>
            <p:seq>
              <p:cTn id="1621" dur="indefinite" nodeType="mainSeq">
                <p:childTnLst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area of a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½ a b sin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"/>
          <p:cNvGrpSpPr/>
          <p:nvPr/>
        </p:nvGrpSpPr>
        <p:grpSpPr>
          <a:xfrm>
            <a:off x="1619280" y="1371600"/>
            <a:ext cx="5334120" cy="2745720"/>
            <a:chOff x="1619280" y="1371600"/>
            <a:chExt cx="5334120" cy="2745720"/>
          </a:xfrm>
        </p:grpSpPr>
        <p:sp>
          <p:nvSpPr>
            <p:cNvPr id="518" name=""/>
            <p:cNvSpPr/>
            <p:nvPr/>
          </p:nvSpPr>
          <p:spPr>
            <a:xfrm>
              <a:off x="1619280" y="1371600"/>
              <a:ext cx="5334120" cy="2286000"/>
            </a:xfrm>
            <a:prstGeom prst="triangle">
              <a:avLst>
                <a:gd name="adj" fmla="val 7348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581800" y="13716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152800" y="32004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6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362480" y="36576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0cm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990880" y="19810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9cm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395280" y="258840"/>
            <a:ext cx="71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nd the Area of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187280" y="3429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580000" y="9079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20000" y="35002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1116000" y="4124160"/>
                <a:ext cx="203508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1087560" y="5060880"/>
                <a:ext cx="312408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t xml:space="preserve">9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1116000" y="5994360"/>
                <a:ext cx="177660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0" dur="indefinite" restart="never" nodeType="tmRoot">
          <p:childTnLst>
            <p:seq>
              <p:cTn id="1671" dur="indefinite" nodeType="mainSeq">
                <p:childTnLst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1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4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5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7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"/>
          <p:cNvGrpSpPr/>
          <p:nvPr/>
        </p:nvGrpSpPr>
        <p:grpSpPr>
          <a:xfrm>
            <a:off x="2340000" y="1371600"/>
            <a:ext cx="5327640" cy="2745720"/>
            <a:chOff x="2340000" y="1371600"/>
            <a:chExt cx="5327640" cy="2745720"/>
          </a:xfrm>
        </p:grpSpPr>
        <p:sp>
          <p:nvSpPr>
            <p:cNvPr id="531" name=""/>
            <p:cNvSpPr/>
            <p:nvPr/>
          </p:nvSpPr>
          <p:spPr>
            <a:xfrm>
              <a:off x="2340000" y="1371600"/>
              <a:ext cx="4613400" cy="2286000"/>
            </a:xfrm>
            <a:prstGeom prst="triangle">
              <a:avLst>
                <a:gd name="adj" fmla="val 7348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767560" y="13716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278400" y="3200400"/>
              <a:ext cx="131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71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713120" y="3657600"/>
              <a:ext cx="131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8m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348240" y="2035080"/>
              <a:ext cx="131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5m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395280" y="258840"/>
            <a:ext cx="71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 1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nd the Area of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948360" y="34146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08000" y="33415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796000" y="981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1116000" y="4124160"/>
                <a:ext cx="203508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1071720" y="5060880"/>
                <a:ext cx="29527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8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1116000" y="5994360"/>
                <a:ext cx="163368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0" dur="indefinite" restart="never" nodeType="tmRoot">
          <p:childTnLst>
            <p:seq>
              <p:cTn id="1721" dur="indefinite" nodeType="mainSeq">
                <p:childTnLst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6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736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1" dur="1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2" dur="4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4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59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395280" y="258840"/>
            <a:ext cx="71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 2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nd the Area correct to 3 sig fi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156360" y="44942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124000" y="15573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516720" y="1628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116000" y="4124160"/>
                <a:ext cx="203508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900000" y="5060880"/>
                <a:ext cx="329580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1087560" y="5994360"/>
                <a:ext cx="297972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9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700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50" name=""/>
          <p:cNvGrpSpPr/>
          <p:nvPr/>
        </p:nvGrpSpPr>
        <p:grpSpPr>
          <a:xfrm>
            <a:off x="2536920" y="-15840"/>
            <a:ext cx="5226120" cy="4568760"/>
            <a:chOff x="2536920" y="-15840"/>
            <a:chExt cx="5226120" cy="4568760"/>
          </a:xfrm>
        </p:grpSpPr>
        <p:sp>
          <p:nvSpPr>
            <p:cNvPr id="551" name=""/>
            <p:cNvSpPr/>
            <p:nvPr/>
          </p:nvSpPr>
          <p:spPr>
            <a:xfrm rot="2170800">
              <a:off x="2766960" y="1125360"/>
              <a:ext cx="4613400" cy="2286000"/>
            </a:xfrm>
            <a:prstGeom prst="triangle">
              <a:avLst>
                <a:gd name="adj" fmla="val 6842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67560" y="13716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724360" y="3763800"/>
              <a:ext cx="131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46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643280" y="1341360"/>
              <a:ext cx="131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65m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43640" y="2827440"/>
              <a:ext cx="131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53m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708360" y="3068640"/>
              <a:ext cx="131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89m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9" dur="indefinite" restart="never" nodeType="tmRoot">
          <p:childTnLst>
            <p:seq>
              <p:cTn id="1770" dur="indefinite" nodeType="mainSeq">
                <p:childTnLst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1" dur="8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2" dur="8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8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8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801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6" dur="77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7" dur="770" fill="hold"/>
                                        <p:tgtEl>
                                          <p:spTgt spid="5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09" dur="77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1" dur="77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3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5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ify the following leaving positive ind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167360" y="1773360"/>
                <a:ext cx="266688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50880" y="1700280"/>
                <a:ext cx="190512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38280" y="4149720"/>
                <a:ext cx="241272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467240" y="4118040"/>
                <a:ext cx="21272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952560" y="2886120"/>
                <a:ext cx="69840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057400" y="3156120"/>
                <a:ext cx="7621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905360" y="2854440"/>
                <a:ext cx="79380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p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765760" y="3122640"/>
                <a:ext cx="11113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p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954840" y="2906640"/>
                <a:ext cx="85716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112760" y="5261040"/>
                <a:ext cx="63504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827360" y="5564160"/>
                <a:ext cx="7617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627280" y="5651640"/>
                <a:ext cx="57168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437000" y="5261040"/>
                <a:ext cx="111132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508720" y="5261040"/>
                <a:ext cx="117468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2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877080" y="5292720"/>
                <a:ext cx="10796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4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4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fy the following su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389480" y="2027160"/>
                <a:ext cx="22222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92120" y="1954080"/>
                <a:ext cx="22226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539640" y="4149720"/>
                <a:ext cx="22543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427640" y="4149720"/>
                <a:ext cx="32702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87520" y="3124080"/>
                <a:ext cx="14284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882800" y="3124080"/>
                <a:ext cx="11113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454720" y="3122640"/>
                <a:ext cx="14288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7205760" y="3132000"/>
                <a:ext cx="11113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914400" y="5013360"/>
                <a:ext cx="13971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411280" y="5013360"/>
                <a:ext cx="11113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576760" y="4797360"/>
                <a:ext cx="26672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867280" y="5373720"/>
                <a:ext cx="18734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338880" y="5952960"/>
                <a:ext cx="8254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822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rci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fy the following su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611600" y="2027160"/>
                <a:ext cx="17780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730080" y="1954080"/>
                <a:ext cx="17463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793800" y="4149720"/>
                <a:ext cx="17463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665600" y="4149720"/>
                <a:ext cx="27939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03360" y="3124080"/>
                <a:ext cx="13968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882800" y="3139920"/>
                <a:ext cx="111132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470560" y="3122640"/>
                <a:ext cx="13968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205760" y="3132000"/>
                <a:ext cx="11113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803160" y="5013360"/>
                <a:ext cx="1619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411280" y="5029200"/>
                <a:ext cx="11113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576760" y="4797360"/>
                <a:ext cx="26672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867280" y="5373720"/>
                <a:ext cx="18734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38880" y="5952960"/>
                <a:ext cx="8254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250920" y="90792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Remember looking for square factors – 4,9,16,25,36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96000" y="189000"/>
            <a:ext cx="625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Find the exact length of each missing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2120" y="1125360"/>
            <a:ext cx="2082240" cy="2989800"/>
            <a:chOff x="762120" y="1125360"/>
            <a:chExt cx="2082240" cy="2989800"/>
          </a:xfrm>
        </p:grpSpPr>
        <p:sp>
          <p:nvSpPr>
            <p:cNvPr id="114" name=""/>
            <p:cNvSpPr/>
            <p:nvPr/>
          </p:nvSpPr>
          <p:spPr>
            <a:xfrm>
              <a:off x="1485720" y="1125360"/>
              <a:ext cx="1053720" cy="2209680"/>
            </a:xfrm>
            <a:prstGeom prst="rtTriangl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2120" y="2115720"/>
              <a:ext cx="68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7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38360" y="3411360"/>
              <a:ext cx="68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1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58920" y="1963440"/>
              <a:ext cx="68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85720" y="3106440"/>
              <a:ext cx="228240" cy="228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911920" y="765000"/>
            <a:ext cx="2209680" cy="2571840"/>
            <a:chOff x="5911920" y="765000"/>
            <a:chExt cx="2209680" cy="2571840"/>
          </a:xfrm>
        </p:grpSpPr>
        <p:sp>
          <p:nvSpPr>
            <p:cNvPr id="120" name=""/>
            <p:cNvSpPr/>
            <p:nvPr/>
          </p:nvSpPr>
          <p:spPr>
            <a:xfrm rot="10800000">
              <a:off x="5968800" y="1127160"/>
              <a:ext cx="1523880" cy="2209680"/>
            </a:xfrm>
            <a:prstGeom prst="rtTriangl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35800" y="187020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6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11920" y="1927080"/>
              <a:ext cx="9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8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78640" y="7650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0800000">
              <a:off x="7264080" y="1126800"/>
              <a:ext cx="228600" cy="228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17120" y="4118040"/>
            <a:ext cx="1839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=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+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46280" y="4592520"/>
            <a:ext cx="245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50960"/>
                <a:tab algn="l" pos="1241280"/>
                <a:tab algn="l" pos="1905120"/>
                <a:tab algn="l" pos="2395440"/>
                <a:tab algn="l" pos="314640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 = 49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11080" y="566100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=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5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 = 5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79400" y="5102280"/>
            <a:ext cx="3071520" cy="459720"/>
            <a:chOff x="779400" y="5102280"/>
            <a:chExt cx="3071520" cy="459720"/>
          </a:xfrm>
        </p:grpSpPr>
        <p:sp>
          <p:nvSpPr>
            <p:cNvPr id="129" name=""/>
            <p:cNvSpPr/>
            <p:nvPr/>
          </p:nvSpPr>
          <p:spPr>
            <a:xfrm>
              <a:off x="779400" y="5102280"/>
              <a:ext cx="30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a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50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14240" y="5172120"/>
              <a:ext cx="590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455800" y="4005360"/>
            <a:ext cx="178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=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-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35640" y="4479840"/>
            <a:ext cx="245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50960"/>
                <a:tab algn="l" pos="1241280"/>
                <a:tab algn="l" pos="1905120"/>
                <a:tab algn="l" pos="2395440"/>
                <a:tab algn="l" pos="314640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PMingLiU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PMingLiU"/>
              </a:rPr>
              <a:t> = 64 -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35640" y="5635800"/>
            <a:ext cx="30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 =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7 = 2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435640" y="5003640"/>
            <a:ext cx="3071520" cy="459720"/>
            <a:chOff x="5435640" y="5003640"/>
            <a:chExt cx="3071520" cy="459720"/>
          </a:xfrm>
        </p:grpSpPr>
        <p:sp>
          <p:nvSpPr>
            <p:cNvPr id="135" name=""/>
            <p:cNvSpPr/>
            <p:nvPr/>
          </p:nvSpPr>
          <p:spPr>
            <a:xfrm>
              <a:off x="5435640" y="5003640"/>
              <a:ext cx="30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b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28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70480" y="5073480"/>
              <a:ext cx="590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ctional Ind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1125000"/>
            <a:ext cx="64008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ation for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817720" y="2511360"/>
                <a:ext cx="30495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</m:e>
                    </m:d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rad>
                      <m:deg>
                        <m:r>
                          <m:t xml:space="preserve">m</m:t>
                        </m:r>
                      </m:deg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rite each of the following as su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675320" y="1979640"/>
                <a:ext cx="16509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793800" y="1906560"/>
                <a:ext cx="16192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003320" y="4324320"/>
                <a:ext cx="16826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578480" y="4324320"/>
                <a:ext cx="1904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546200" y="3108240"/>
                <a:ext cx="7938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7</m:t>
                        </m:r>
                      </m:deg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665680" y="3092400"/>
                <a:ext cx="6350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p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66720" y="5229360"/>
                <a:ext cx="66672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7</m:t>
                            </m:r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668600" y="5262480"/>
                <a:ext cx="10792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267160" y="5229360"/>
                <a:ext cx="88920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222960" y="5245200"/>
                <a:ext cx="130176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81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12:03:37Z</dcterms:created>
  <dc:creator/>
  <dc:description/>
  <dc:language>en-US</dc:language>
  <cp:lastModifiedBy/>
  <dcterms:modified xsi:type="dcterms:W3CDTF">2007-02-23T14:36:27Z</dcterms:modified>
  <cp:revision>13</cp:revision>
  <dc:subject/>
  <dc:title>Credit Revision</dc:title>
</cp:coreProperties>
</file>